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54A3-898D-4999-AE46-1C48AF1C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35A-6505-47A9-B7A0-109FF76B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B7B2-BEFE-473B-8F49-5717387C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3B0-CE7D-4A53-A61E-5F6F7D07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767A-2B0E-4941-8B09-3C98CE7C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B00F-397E-42E3-A47B-A02EB49C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1B62-31FB-4966-B1E8-DFDC7992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AD95-E409-4215-AC65-C0F1DBFF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770F-C630-4548-8931-DE66684F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260C-5E05-4F4F-9183-F5CB33FE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EC66-86DE-4DD0-9985-A0FD346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A29-28E3-42C9-ADBE-A35BED31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1DA7-9532-4164-A343-7EB2584E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70F5-E1F4-4DA2-900C-BDBE120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2A49-00EE-40D2-9A39-8B24DEB3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879F-1366-41BF-A74A-437A94FD1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C175-B9C7-49C4-AA00-91C265C7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227-3828-4882-84A4-B316076E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7C0-A439-4FCD-9ABE-983F5ADA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0A1E-94DB-46DE-BF64-66B35D8D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1D1-7AFD-4DCC-9ED5-38205852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E11-A0C7-4532-85D4-57BF61EB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E09-498D-4736-8814-11A184DF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794-72D4-4867-A15C-1805757C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B5AF-46FE-4A1A-8BDB-ABD0D54CD5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D323-8E24-45D4-A1EE-A4A2D1A93B4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hyperlink" Target="http://images.google.ca/imgres?imgurl=http://www.moonsinger.com/RealityCheck/RealityCheck-ObamaFamilySepia.jpg&amp;imgrefurl=http://www.moonsinger.com/realitycheck.htm&amp;usg=__gWDc_qW92ZGW3vj5BvA6ZVpwksQ=&amp;h=381&amp;w=451&amp;sz=48&amp;hl=en&amp;start=3&amp;um=1&amp;itbs=1&amp;tbnid=TsUbi9dN30tcSM:&amp;tbnh=107&amp;tbnw=127&amp;prev=/images%3Fq%3Dhuman%2Bfamily%26um%3D1%26hl%3Den%26sa%3DN%26gbv%3D2%26tbs%3Disch:1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ocializ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Unit 2 - b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ts of Socialization -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629400" y="4191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3520" y="2590920"/>
            <a:ext cx="5333760" cy="3962160"/>
          </a:xfrm>
          <a:prstGeom prst="wedgeRoundRectCallout">
            <a:avLst>
              <a:gd name="adj1" fmla="val 68750"/>
              <a:gd name="adj2" fmla="val -7893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9200" y="2779560"/>
            <a:ext cx="495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condary Socialization – group ru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aling with formal ru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paration for the adult worl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anifest function – visible purpose of scho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o learn academic skil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atent function – hidden purpos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to learn how to understa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cooperate with strang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learn rules about being o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, being neat, when 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alk, respect for author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19920" y="1981080"/>
            <a:ext cx="274320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ts of Socialization – Peer group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477120" y="4191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" y="2514600"/>
            <a:ext cx="5334120" cy="3581280"/>
          </a:xfrm>
          <a:prstGeom prst="wedgeRoundRectCallout">
            <a:avLst>
              <a:gd name="adj1" fmla="val 67143"/>
              <a:gd name="adj2" fmla="val 4388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5720" y="2703600"/>
            <a:ext cx="506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st influential between ages 10-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cial group where members are the same 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share the same interests and social posi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vide opportunities to do things not usuall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ncouraged by one’s fami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er pressure: values and behaviour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xual attitudes, gender ro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5146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ts of Socialization - Med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70572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2514600"/>
            <a:ext cx="5410440" cy="3886200"/>
          </a:xfrm>
          <a:prstGeom prst="wedgeRoundRectCallout">
            <a:avLst>
              <a:gd name="adj1" fmla="val 65490"/>
              <a:gd name="adj2" fmla="val 10907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640" y="2779560"/>
            <a:ext cx="534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unction:  Commercial – designed to make mone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y obtaining as many customers as possib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tract customers by setting out an unrealistic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ew of life (cop drama: suspense, romance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ragedy and justice fits into 52 minute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dvertising – attempts to persuade us that w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an ‘have it all’ Gender roles are created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inforced, whether realistic or no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:  average model 5’9”, 123 l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verage women 5’4”, 144l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23274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ts of Socialization - Relig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629400" y="4191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09480" y="2438280"/>
            <a:ext cx="5334120" cy="3581640"/>
          </a:xfrm>
          <a:prstGeom prst="wedgeRoundRectCallout">
            <a:avLst>
              <a:gd name="adj1" fmla="val 66935"/>
              <a:gd name="adj2" fmla="val 30805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560" y="2855880"/>
            <a:ext cx="5267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96 – approx 86% of Canadians indicated tha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y had some sort of religious fait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30% reported weekly attendance a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religious servic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ligious activities communicate beliefs abou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der, appropriate sexual conduct, the afterlife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ponsibility for one another in society, valu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d morals (usually reinforced by the family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629400" y="1981080"/>
            <a:ext cx="17938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ts of Socialization –Workpl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400800" y="4191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0880" y="2438280"/>
            <a:ext cx="5562720" cy="4038840"/>
          </a:xfrm>
          <a:prstGeom prst="wedgeRoundRectCallout">
            <a:avLst>
              <a:gd name="adj1" fmla="val 63500"/>
              <a:gd name="adj2" fmla="val 21657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666880"/>
            <a:ext cx="5213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st people take up paid employment at so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ready learned the importance of punctuality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propriate dress, respect for authority at scho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st learn specialized language, procedur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as they relate to our job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ust learn how to deal with colleagu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mpetitors, customers, stude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ambuilding activi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Wilson &amp; Phillips : Workplace Photography"/>
          <p:cNvPicPr/>
          <p:nvPr/>
        </p:nvPicPr>
        <p:blipFill>
          <a:blip r:embed="rId2"/>
          <a:stretch/>
        </p:blipFill>
        <p:spPr>
          <a:xfrm>
            <a:off x="6172200" y="2209680"/>
            <a:ext cx="27082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gents of Socialization –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tal Institu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29400" y="42670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0880" y="2209680"/>
            <a:ext cx="5257800" cy="4343400"/>
          </a:xfrm>
          <a:prstGeom prst="wedgeRoundRectCallout">
            <a:avLst>
              <a:gd name="adj1" fmla="val 70078"/>
              <a:gd name="adj2" fmla="val 13120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8320" y="2286000"/>
            <a:ext cx="4496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tended to wipe out old socialization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place it with ne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oot camp – for young offend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ison – convicted fel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tructive religious cul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naster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lita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mphasis on removing individuality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placing it with a common group ident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identical hair cu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identical cloth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strict enforcement of rules abou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ily activities and schedul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172200" y="990720"/>
            <a:ext cx="24922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tal Institutions - Asylu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gradation ceremon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intended to weaken a person’s current identity so that a new one could be put in its place – many have since been abolish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mon in all Total Institu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 aspects of life are closely supervised by staff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mbers have no choice regarding food or sleeping arrang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mal rules about virtually all aspects of daily rout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Name and who you a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837720" y="2361960"/>
            <a:ext cx="71946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name might tell you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Your g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Your ethnicity – Physical character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ossibly your 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xample:  What comes to mind when you hear the name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Jennifer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iz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572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be yourself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g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Name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Ethnicit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Physical characteristic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lik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dislik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Hobbi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trengths (school, sport, art…)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Interest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values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personal history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5520" y="2361960"/>
            <a:ext cx="34257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w, imagine you were switched at birth with another baby in the maternity ward and went home with the ‘wrong’ family and were raised by the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w might you be different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43400" y="38088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The Nurture Side of Things!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66"/>
                </a:solidFill>
                <a:uFillTx/>
                <a:latin typeface="Arial"/>
              </a:rPr>
              <a:t>Socialization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– lifelong process through which we learn all the knowledge, skills and attitudes we need to survive and prosp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Sociologi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focus on how we learn the basic rules and attitudes of human behaviour (don’t pick your n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Psychologist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focus on the development of the human personality – those characteristics that make each individual unique (self-confiden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Anthropologis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focus on the process by which permanent human societies are produced.  (A uniquely human way of life centered on ‘marriage’, ‘family’, and ‘household’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cialization 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ey process in the development of the individu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cessary for the continuation of socie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ffects virtually every aspect of our l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 1) Hunger patterns (when we ea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)  Perception of the world around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us (Arctic peoples have many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s for ‘snow’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s of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aliza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2438280"/>
            <a:ext cx="4496040" cy="40388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276720"/>
            <a:ext cx="3200400" cy="2743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4114800"/>
            <a:ext cx="152388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ima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cializ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3581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33680" y="3809880"/>
            <a:ext cx="26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ary Socializ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7000" y="289548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ticipatory Socializ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286000"/>
            <a:ext cx="2438640" cy="2158920"/>
          </a:xfrm>
          <a:prstGeom prst="borderCallout1">
            <a:avLst>
              <a:gd name="adj1" fmla="val 35691"/>
              <a:gd name="adj2" fmla="val 22362"/>
              <a:gd name="adj3" fmla="val 1013"/>
              <a:gd name="adj4" fmla="val 22362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475000"/>
            <a:ext cx="243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e lear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Languag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How to ea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 practice hygien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Gender ro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 deal with emo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6554520" y="4230360"/>
            <a:ext cx="2435400" cy="2438640"/>
          </a:xfrm>
          <a:prstGeom prst="borderCallout1">
            <a:avLst>
              <a:gd name="adj1" fmla="val -661"/>
              <a:gd name="adj2" fmla="val 26852"/>
              <a:gd name="adj3" fmla="val -661"/>
              <a:gd name="adj4" fmla="val 999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37240" y="4151160"/>
            <a:ext cx="2355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an how to function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groups (schools)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w to follow th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ehaviours societ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pects of us whil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ng in group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tuat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5400000">
            <a:off x="6134760" y="265680"/>
            <a:ext cx="2438280" cy="2516400"/>
          </a:xfrm>
          <a:prstGeom prst="borderCallout1">
            <a:avLst>
              <a:gd name="adj1" fmla="val 26928"/>
              <a:gd name="adj2" fmla="val 22626"/>
              <a:gd name="adj3" fmla="val 1308"/>
              <a:gd name="adj4" fmla="val 22626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9600" y="417600"/>
            <a:ext cx="242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velop the ability to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ink ahead and ac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cord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nents of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cialization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esocializatio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  Deliberate attempt by society to replace aspects of an individual’s socialization with new learn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114800" cy="2738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83000" y="5257800"/>
            <a:ext cx="72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prisons, society tries to change inmates’ learned behaviour to mor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ppropriate, law-abiding on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ts of Socializ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w might a person develop if cut off from normal human contact at an early ag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eral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 Children raised by wild animals (unrealisti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solat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 raised in human households but were severely neglected physically, socially and emotional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na 1938.  5 year old found hidden in a second floor storage room tied into a cha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enie 1970: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3 year old ha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en kept locke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a room wit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nly a potty se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0" y="3581280"/>
            <a:ext cx="1806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ts of Socialization - Fami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4038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2514600"/>
            <a:ext cx="5334120" cy="3809880"/>
          </a:xfrm>
          <a:prstGeom prst="wedgeRoundRectCallout">
            <a:avLst>
              <a:gd name="adj1" fmla="val 68750"/>
              <a:gd name="adj2" fmla="val -6208"/>
              <a:gd name="adj3" fmla="val 1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3084480"/>
            <a:ext cx="59547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Primary Socialization – 1</a:t>
            </a:r>
            <a:r>
              <a:rPr b="1" lang="en-US" sz="18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Agent of socializ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Most influential ages 0-6, after 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r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ender rol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hat are our own special unique qualiti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Vital in the development of the sel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socialization we get at home is n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lways correc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2438280"/>
            <a:ext cx="167652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6:25:17Z</dcterms:created>
  <dc:creator>Administrator</dc:creator>
  <dc:description/>
  <dc:language>en-US</dc:language>
  <cp:lastModifiedBy>Customer</cp:lastModifiedBy>
  <dcterms:modified xsi:type="dcterms:W3CDTF">2010-09-24T18:09:36Z</dcterms:modified>
  <cp:revision>8</cp:revision>
  <dc:subject/>
  <dc:title>Socialization</dc:title>
</cp:coreProperties>
</file>